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425D-00A9-497B-B050-F2A8BAAD8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6852-A0B8-4125-9A13-D8192212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A69A-C85F-4266-89DA-9334096F5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061F-22F5-4766-99A1-BBFBB74D4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B5A7-0FB3-4BAE-AF4A-7FBFD124F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7E86-DE0C-4B75-8446-C026D708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F2B3-81CF-4C31-AF3C-836CDA01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C7D16-A2B7-4EE0-8644-A931BF10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34A8-1273-42AA-8B6C-5A9D046E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A087-944B-43D1-A063-CC814267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FE8D-4DE4-4A83-9A89-B91E62A4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CD95-E64D-4991-BFD5-2D94D210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EA9C-AB9A-4014-8F07-A43545AF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1FAA9-B0DA-4E5D-BE1A-D3B4A914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1B30-449A-4608-9113-6E8BBA54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FD61-820C-4C77-A645-61E32BA4A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F714F-05CB-4DCB-B58C-C5DB67232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E61F61-7FD0-420E-ADB4-FEF9347DC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18413A-26E9-4445-8F16-37ED43F8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0B4014-78E2-469D-B192-6E13A8A6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D9226B-2D16-437C-B25F-89DE7615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FF44F7-FCBA-4178-8E7B-C6484CF5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E1B3-A4AA-4936-BE4B-3D1B314C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1A8BBB-D5FF-4277-9213-6049D36F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591ACC-60AB-44CD-8E33-22B2603F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B9D4D5-ECF8-4DA0-9B63-4A52C58D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BDB02E-FB23-407F-8518-92DB7762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1D9FBA-B4EE-4C21-88C6-99575436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DC2236-04AF-4675-908B-C8E128B02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55D8EC-5FF1-4F4E-BE59-8240135D7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CD25B5-01C3-4974-AC3B-DC5B84BD9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6EBF24-2FA3-4746-B9AB-7E7CF413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9FC0AF-14D9-4506-9A31-3184B333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F9D7-C141-4850-890B-BD101616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3EE169-4E6F-4EA5-A009-F1316865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3DECC1-879E-4BB1-8803-27C65964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0B80F4-55F0-4496-BE6E-614A6ECF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52EAAE-08B4-46B9-8C3C-F680D177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2F1DD9-A004-46C6-A2AF-D910A69C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4A97F9-547C-4AAF-AED4-C9026043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ACBE7C-6A44-4D77-B2AE-BEC94FA7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4BEDE5-F403-4010-B4B6-1B15AB1C1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9B7D17-25FA-4EF8-800C-0AE1D6981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516022-180A-41B9-8A24-92D75443F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C93F-5E1A-47D3-A30D-4347CAC8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F7436F-9739-46CA-B52C-6BFA232D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60524A-1665-48E3-B366-B89FA166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A05CF2-55BE-437B-B03D-BAB9D61A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558BD3-A560-40CB-87A6-86093773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E1FCF5-E740-4896-A86A-6215DEED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6113B7-E59E-4ED9-A541-92AB049A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48AD4A-7D9D-425A-B13C-263E2208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CD3181-153C-4DBF-A3F8-81CD82DE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6CF628-4A2F-4E9B-8037-8BD63A33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3F6CC3-0E4C-4890-A254-9137B1F48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DEED-75B7-4805-84B1-1224F66D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3357B9-0F6E-4A5C-B9E2-274CC2B72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1952E-F5A6-49CF-97C0-D30972A3F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1CB59-A177-430F-80FC-C8351784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7B650-8269-482A-AE66-859A7693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C2916-8233-4CC2-81AD-3A61D0E1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CE395-DC79-4117-B614-435DEA12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41C7C-38A3-4AE3-ADF9-04493F2B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B9666-11BF-4019-A2F7-BEF39EB2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30DB8-7AE4-41FA-BE11-FC076719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61EB4-9E7B-46E9-A02D-2D83B8EA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CDBC-1275-4620-A2E3-EEE83808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8A199-0BF8-47F1-AC54-4DF9629A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95E38-38CA-4AF2-8E19-72B41825A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2EA48-2CBD-442E-ACDF-955BF6121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1415ED-1301-430F-B58F-35E02D51E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0B1FBD-38F5-4B38-B669-9F156528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C4A018-F150-4F47-AA49-A3156BA2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D5542F-752F-4373-BC69-D240FD82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1F0A6E-8214-4724-91EE-C27D9CA5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1B4064-D565-4E09-99E6-B78CFCB8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8FF3F9-35B0-41FD-A955-5538A2A1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872E-19CC-4A4A-8F26-56395B1A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89CF36-A545-4CBD-ACDC-9E29B79F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AB50E0-272B-4F68-852B-FFB630FB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5955E5-917C-4101-A992-46A5EF08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72B2CE-743F-4874-9B03-C2B562C21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67F95A-E5CF-4545-8DE8-1B46E4096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81900-60B3-498B-B969-E43180DFD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3E0B8-FFBD-47DA-A623-CD247D7D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10D5E-4CBC-4207-B455-251A770D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F1EAB-23F3-4019-BBC6-E7EC1BCF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917D3-25EF-4DE0-9488-387D8E4A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FF82-AF3E-438B-8D3D-7C511619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F7C2A-6F26-4CFF-97FF-6820BAE2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1660D-B156-4135-A0F5-DD3AA4AB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5CC59-E578-4B7D-9237-560AFCB0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071F3-2A4F-4759-B87B-EAA2F5A8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91CF7-B24C-48D6-8FBB-ED4B8E7E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C18A8-E0C5-4387-BF2B-8BB444EB3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86819-0D43-4A65-A7E1-A1DBE7A2E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C208-F833-4B52-A160-D5D4B0E77A3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6942-108B-486C-9302-9B10650CE555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C263-96D5-440D-B5DD-B2A095662CC8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B536-C475-4B6A-925C-47185ED5287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3D24-3515-49A4-87D3-B49505496DE2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25DC-E4B5-4FA6-BDF8-51C83AA0C2B7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EDD4-D2BF-489F-A93A-9AAE49EA357F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7038-EE77-4CB7-A382-9136DF6513D2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Tw Cen MT"/>
              </a:rPr>
              <a:t>Information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rank went to the beach for the week.  He found 24 seashells on Monday, 18 shells on Tuesday and 12 shells on Wednesday.  He spent 2 hours swimming on Thursday.  On Friday, he swam for 3 hours and then built a sand castle in the shape of a square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 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2 Fee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3200400" y="4114800"/>
            <a:ext cx="2286000" cy="1676520"/>
          </a:xfrm>
          <a:prstGeom prst="rect">
            <a:avLst/>
          </a:prstGeom>
          <a:solidFill>
            <a:srgbClr val="d0af72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TextBox 6"/>
          <p:cNvSpPr/>
          <p:nvPr/>
        </p:nvSpPr>
        <p:spPr>
          <a:xfrm>
            <a:off x="3809880" y="4343400"/>
            <a:ext cx="152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Sand   Castl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Tw Cen MT"/>
              </a:rPr>
              <a:t>Monday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599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ow many more shells did Frank find on Monday than on Wednesday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Tw Cen MT"/>
              </a:rPr>
              <a:t>Tuesday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599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is a good estimate of the total number of shells that Frank found on the beach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Tw Cen MT"/>
              </a:rPr>
              <a:t>Wednesday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599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ow many minutes did Frank spend swimming on Friday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Tw Cen MT"/>
              </a:rPr>
              <a:t>Thursday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599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f the pattern continued how many shells would Frank have found on Thursday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Tw Cen MT"/>
              </a:rPr>
              <a:t>Friday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5998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was the perimeter of the sand castl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20:34:49Z</dcterms:created>
  <dc:creator>127partidak</dc:creator>
  <dc:description/>
  <dc:language>en-US</dc:language>
  <cp:lastModifiedBy>127partidak</cp:lastModifiedBy>
  <dcterms:modified xsi:type="dcterms:W3CDTF">2011-09-16T20:41:48Z</dcterms:modified>
  <cp:revision>1</cp:revision>
  <dc:subject/>
  <dc:title>Information</dc:title>
</cp:coreProperties>
</file>